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7.wmf" ContentType="image/x-wmf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3.png" ContentType="image/png"/>
  <Override PartName="/ppt/media/image5.jpeg" ContentType="image/jpeg"/>
  <Override PartName="/ppt/media/image11.wmf" ContentType="image/x-wmf"/>
  <Override PartName="/ppt/media/image36.jpeg" ContentType="image/jpeg"/>
  <Override PartName="/ppt/media/image9.jpeg" ContentType="image/jpeg"/>
  <Override PartName="/ppt/media/image8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wmf" ContentType="image/x-wmf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36F1-2DB7-483D-9E45-88FF6BBB7F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UR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UR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bbling 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6,000 º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hotospher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’s surf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ubbling plasm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nly 6,000 ºC!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,000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flares/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hro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’s at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0,000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urce of flares/prominenc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hro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only during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llion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ON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rown”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e only during solar eclips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 million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de of i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urney from the center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Journey from the center of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pots on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by twisting of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SPO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ol spots on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used by twisting of magnetic field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t. 17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sequenc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ct. 17, 201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in sequence st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ong is a sunspot cy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ow long is a sunspot cycl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year 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e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1 year sunspot cyc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ycle numbe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prominen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lame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s magnetic force of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last for weeks to a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m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prominenc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filaments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llows magnetic force of sunspo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last for weeks to a ye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ar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telescop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olent eru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for minu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damage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reach Earth-  oho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R4fX-iFD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flar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iolent erup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st for minute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damage satellit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reach Earth-  ohoh!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ttp://www.youtube.com/watch?v=R4fX-iFDo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in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ause power outages, satellite damage and aur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onal Mass Ejecti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oduced in coron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rge storm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cause power outages, satellite damage and aurora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 are so hot, gravity can’t hold them on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0 km/sec (1 million mp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: 449.5 km/s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wi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ons are so hot, gravity can’t hold them onto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400 km/sec (1 million mph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oday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peed: 449.5 km/sec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OR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rthern lights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when Suns’ ions enter Earth’s at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URORA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Northern lights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used when Suns’ ions enter Earth’s atm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uroras from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uroras from sp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very high temper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+ H → He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=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Need very high temperatur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 + H → He 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nergy= hea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gh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M radi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% H &amp; 10%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- gas stripped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ositon of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90% H &amp; 10% H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lasma- gas stripped of electr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n 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 Lay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Fusion is taking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llion º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here Fusion is taking pl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5 million º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s traveling through this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million º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diative Zon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M radiation is traveling through this z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.5 million º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VEC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ot gases rise to surface, cooler gases sink= turbul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CTIVE Z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ot gases rise to surface, cooler gases sink= turbulan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29B-212B-4B9D-AE9C-76178074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A53-9B02-476B-887D-E43E5FEF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7AD-742F-429B-BD6E-8BDCEA13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8AA-6DDE-46F9-93A5-622939EA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28AE-CB26-41FF-B135-47E5F8C8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ED4A-B611-4C5A-94C9-CD526C80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966A-EF19-4A72-9053-9B1BC2E0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A14B-3E56-421E-A4C6-C701A77C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ADA4-7CBD-465B-9AFC-BDD1CC31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93E3-E320-4187-B41F-E3D6D681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B310-F14D-4F03-8873-0020FD6B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601-2AEB-41A0-B099-C1ABB8E6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FE4C-FA6E-41E2-ABB8-1703BA38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DA98-81F6-4683-9AA4-6F560E8B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3E60-2638-45A5-AA46-1E1F5949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16E6-D162-43B8-A711-834703ED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9DA7-E8E1-4E40-9351-E1011BA4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D75-3652-4C34-BA89-66205BE1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ABD7-5EE3-4D37-AA33-54DA54F7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129-F30A-43F9-9AF3-15882AB0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13DC-5CD2-4CB4-AEA8-E47CA504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549-7985-44AA-A5F4-8A6D10C9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326-EFBF-4EB9-9F1D-47305FC1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93AC-FC66-4A72-8D07-41D9FD7F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E189-95B9-44F6-9DA1-AB7EFF17052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CA2B-F209-4E1D-8969-3A4B5A2FF5D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michielb.nl/sun/chromo.htm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OUR SUN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8" name="Picture 5" descr="Sun and planets to the same scale"/>
          <p:cNvPicPr/>
          <p:nvPr/>
        </p:nvPicPr>
        <p:blipFill>
          <a:blip r:embed="rId1"/>
          <a:stretch/>
        </p:blipFill>
        <p:spPr>
          <a:xfrm>
            <a:off x="1371600" y="1523880"/>
            <a:ext cx="6858000" cy="5105520"/>
          </a:xfrm>
          <a:prstGeom prst="rect">
            <a:avLst/>
          </a:prstGeom>
          <a:ln w="0">
            <a:noFill/>
          </a:ln>
        </p:spPr>
      </p:pic>
      <p:sp>
        <p:nvSpPr>
          <p:cNvPr id="16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hotospher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n’s surf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bbling plas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ly 6,000 ºC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15" descr="sunspots_earth_size_big"/>
          <p:cNvPicPr/>
          <p:nvPr/>
        </p:nvPicPr>
        <p:blipFill>
          <a:blip r:embed="rId4"/>
          <a:stretch/>
        </p:blipFill>
        <p:spPr>
          <a:xfrm>
            <a:off x="0" y="1889280"/>
            <a:ext cx="4876920" cy="4014720"/>
          </a:xfrm>
          <a:prstGeom prst="rect">
            <a:avLst/>
          </a:prstGeom>
          <a:ln w="0">
            <a:noFill/>
          </a:ln>
        </p:spPr>
      </p:pic>
      <p:sp>
        <p:nvSpPr>
          <p:cNvPr id="20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romosphe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n’s atmosp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0,000 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urce of flares/prominen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8" descr="chromosphere during an eclips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2262240"/>
            <a:ext cx="4038480" cy="3206520"/>
          </a:xfrm>
          <a:prstGeom prst="rect">
            <a:avLst/>
          </a:prstGeom>
          <a:ln w="0">
            <a:noFill/>
          </a:ln>
        </p:spPr>
      </p:pic>
      <p:sp>
        <p:nvSpPr>
          <p:cNvPr id="21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romosphe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380960" y="1600200"/>
            <a:ext cx="6382080" cy="4530600"/>
          </a:xfrm>
          <a:prstGeom prst="rect">
            <a:avLst/>
          </a:prstGeom>
          <a:ln w="0">
            <a:noFill/>
          </a:ln>
        </p:spPr>
      </p:pic>
      <p:sp>
        <p:nvSpPr>
          <p:cNvPr id="2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O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own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e only during solar eclip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million 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de of 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9" descr="Solar Corona"/>
          <p:cNvPicPr/>
          <p:nvPr/>
        </p:nvPicPr>
        <p:blipFill>
          <a:blip r:embed="rId5"/>
          <a:stretch/>
        </p:blipFill>
        <p:spPr>
          <a:xfrm>
            <a:off x="5105520" y="2209680"/>
            <a:ext cx="3413160" cy="3733920"/>
          </a:xfrm>
          <a:prstGeom prst="rect">
            <a:avLst/>
          </a:prstGeom>
          <a:ln w="0">
            <a:noFill/>
          </a:ln>
        </p:spPr>
      </p:pic>
      <p:sp>
        <p:nvSpPr>
          <p:cNvPr id="21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ourney from the center of the su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0" name="Picture 5" descr="http://ts2.mm.bing.net/th?id=I.4668797715480809&amp;pid=1.7&amp;w=241&amp;h=145&amp;c=7&amp;rs=1"/>
          <p:cNvPicPr/>
          <p:nvPr/>
        </p:nvPicPr>
        <p:blipFill>
          <a:blip r:embed="rId1"/>
          <a:stretch/>
        </p:blipFill>
        <p:spPr>
          <a:xfrm>
            <a:off x="277920" y="1523880"/>
            <a:ext cx="8256600" cy="4967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\\gpps.gpschools.org\dfs\Apps\Global\Microsoft_OfficeMediaContent_2002\FILES\PFILES\MSOFFICE\MEDIA\CNTCD1\ClipArt4\j0240079.wmf"/>
          <p:cNvPicPr/>
          <p:nvPr/>
        </p:nvPicPr>
        <p:blipFill>
          <a:blip r:embed="rId2"/>
          <a:stretch/>
        </p:blipFill>
        <p:spPr>
          <a:xfrm rot="3739200">
            <a:off x="5333760" y="4876560"/>
            <a:ext cx="1833480" cy="1671480"/>
          </a:xfrm>
          <a:prstGeom prst="rect">
            <a:avLst/>
          </a:prstGeom>
          <a:ln w="0">
            <a:noFill/>
          </a:ln>
        </p:spPr>
      </p:pic>
      <p:sp>
        <p:nvSpPr>
          <p:cNvPr id="2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NSPO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ol spots on su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used by twisting of magnetic fiel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5" descr="midi140"/>
          <p:cNvPicPr/>
          <p:nvPr/>
        </p:nvPicPr>
        <p:blipFill>
          <a:blip r:embed="rId3"/>
          <a:stretch/>
        </p:blipFill>
        <p:spPr>
          <a:xfrm>
            <a:off x="4800600" y="1905120"/>
            <a:ext cx="3733920" cy="3733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big2"/>
          <p:cNvPicPr/>
          <p:nvPr/>
        </p:nvPicPr>
        <p:blipFill>
          <a:blip r:embed="rId4"/>
          <a:stretch/>
        </p:blipFill>
        <p:spPr>
          <a:xfrm>
            <a:off x="1143000" y="4038480"/>
            <a:ext cx="3429000" cy="264348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ct. 17, 201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n sequence st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Picture 12" descr="Photo"/>
          <p:cNvPicPr/>
          <p:nvPr/>
        </p:nvPicPr>
        <p:blipFill>
          <a:blip r:embed="rId3"/>
          <a:stretch/>
        </p:blipFill>
        <p:spPr>
          <a:xfrm>
            <a:off x="228600" y="12193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http://spaceweather.com/images2012/16oct12/hmi200.gif"/>
          <p:cNvPicPr/>
          <p:nvPr/>
        </p:nvPicPr>
        <p:blipFill>
          <a:blip r:embed="rId4"/>
          <a:stretch/>
        </p:blipFill>
        <p:spPr>
          <a:xfrm>
            <a:off x="4495680" y="1447920"/>
            <a:ext cx="4419720" cy="441936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w long is a sunspot cycle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2" descr="Solar Cycle 23"/>
          <p:cNvPicPr/>
          <p:nvPr/>
        </p:nvPicPr>
        <p:blipFill>
          <a:blip r:embed="rId2"/>
          <a:stretch/>
        </p:blipFill>
        <p:spPr>
          <a:xfrm>
            <a:off x="380880" y="1295280"/>
            <a:ext cx="826452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11 year sunspot cy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0" name="Picture 7" descr="http://smeter-net.appspot.com/propagation/sunspots/images/sunspot-predictions.png"/>
          <p:cNvPicPr/>
          <p:nvPr/>
        </p:nvPicPr>
        <p:blipFill>
          <a:blip r:embed="rId2"/>
          <a:stretch/>
        </p:blipFill>
        <p:spPr>
          <a:xfrm>
            <a:off x="2133720" y="1371600"/>
            <a:ext cx="5829120" cy="291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716292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Cycle numb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43" name="Straight Arrow Connector 13"/>
          <p:cNvCxnSpPr/>
          <p:nvPr/>
        </p:nvCxnSpPr>
        <p:spPr>
          <a:xfrm flipH="1">
            <a:off x="6781320" y="2132640"/>
            <a:ext cx="457920" cy="7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44" name="Picture 10" descr="http://cbdakota.files.wordpress.com/2012/01/sunspotdecember2011.gif?w=500&amp;h=381"/>
          <p:cNvPicPr/>
          <p:nvPr/>
        </p:nvPicPr>
        <p:blipFill>
          <a:blip r:embed="rId4"/>
          <a:stretch/>
        </p:blipFill>
        <p:spPr>
          <a:xfrm>
            <a:off x="2514600" y="4343400"/>
            <a:ext cx="4705200" cy="2362320"/>
          </a:xfrm>
          <a:prstGeom prst="rect">
            <a:avLst/>
          </a:prstGeom>
          <a:ln w="0">
            <a:noFill/>
          </a:ln>
        </p:spPr>
      </p:pic>
      <p:sp>
        <p:nvSpPr>
          <p:cNvPr id="2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prominences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(filaments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llows magnetic force of sunspo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last for weeks to a y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5" descr="loop prominence"/>
          <p:cNvPicPr/>
          <p:nvPr/>
        </p:nvPicPr>
        <p:blipFill>
          <a:blip r:embed="rId5"/>
          <a:stretch/>
        </p:blipFill>
        <p:spPr>
          <a:xfrm>
            <a:off x="0" y="1676520"/>
            <a:ext cx="4381560" cy="4572000"/>
          </a:xfrm>
          <a:prstGeom prst="rect">
            <a:avLst/>
          </a:prstGeom>
          <a:ln w="0">
            <a:noFill/>
          </a:ln>
        </p:spPr>
      </p:pic>
      <p:sp>
        <p:nvSpPr>
          <p:cNvPr id="2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telescop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5" descr="McMath-Pierce solar telescope"/>
          <p:cNvPicPr/>
          <p:nvPr/>
        </p:nvPicPr>
        <p:blipFill>
          <a:blip r:embed="rId1"/>
          <a:stretch/>
        </p:blipFill>
        <p:spPr>
          <a:xfrm>
            <a:off x="979560" y="1935000"/>
            <a:ext cx="6259320" cy="4389480"/>
          </a:xfrm>
          <a:prstGeom prst="rect">
            <a:avLst/>
          </a:prstGeom>
          <a:ln w="0">
            <a:noFill/>
          </a:ln>
        </p:spPr>
      </p:pic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flar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olent erup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st for minut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damage satelli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reach Earth-  ohoh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23920" y="19047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Picture 8" descr="limb_flare"/>
          <p:cNvPicPr/>
          <p:nvPr/>
        </p:nvPicPr>
        <p:blipFill>
          <a:blip r:embed="rId6"/>
          <a:stretch/>
        </p:blipFill>
        <p:spPr>
          <a:xfrm>
            <a:off x="4419720" y="1676520"/>
            <a:ext cx="4724280" cy="39528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2362320" y="5791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youtube.com/watch?v=R4fX-iFDo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onal Mass Eject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d in coro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rge sto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cause power outages, satellite damage and auror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0" name="Picture 5" descr="Image:CoronalMassEjection.jpg"/>
          <p:cNvPicPr/>
          <p:nvPr/>
        </p:nvPicPr>
        <p:blipFill>
          <a:blip r:embed="rId4"/>
          <a:stretch/>
        </p:blipFill>
        <p:spPr>
          <a:xfrm>
            <a:off x="4572000" y="1523880"/>
            <a:ext cx="4006800" cy="448632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wi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ons are so hot, gravity can’t hold them onto the su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00 km/sec (1 million mp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day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ed: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49.5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m/se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Picture 5" descr="sunearth_lg"/>
          <p:cNvPicPr/>
          <p:nvPr/>
        </p:nvPicPr>
        <p:blipFill>
          <a:blip r:embed="rId5"/>
          <a:stretch/>
        </p:blipFill>
        <p:spPr>
          <a:xfrm>
            <a:off x="4343400" y="2281320"/>
            <a:ext cx="4038480" cy="39672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8"/>
          <p:cNvSpPr/>
          <p:nvPr/>
        </p:nvSpPr>
        <p:spPr>
          <a:xfrm>
            <a:off x="1143000" y="5433480"/>
            <a:ext cx="46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5" descr="magnetosphere3"/>
          <p:cNvPicPr/>
          <p:nvPr/>
        </p:nvPicPr>
        <p:blipFill>
          <a:blip r:embed="rId1"/>
          <a:stretch/>
        </p:blipFill>
        <p:spPr>
          <a:xfrm>
            <a:off x="762120" y="546120"/>
            <a:ext cx="7467480" cy="6222960"/>
          </a:xfrm>
          <a:prstGeom prst="rect">
            <a:avLst/>
          </a:prstGeom>
          <a:ln w="0">
            <a:noFill/>
          </a:ln>
        </p:spPr>
      </p:pic>
      <p:sp>
        <p:nvSpPr>
          <p:cNvPr id="27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20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URORA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(Northern lights)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aused when Suns’ ions enter Earth’s atm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4" name="Picture 5" descr="Russell2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4572000"/>
          </a:xfrm>
          <a:prstGeom prst="rect">
            <a:avLst/>
          </a:prstGeom>
          <a:ln w="0">
            <a:noFill/>
          </a:ln>
        </p:spPr>
      </p:pic>
      <p:sp>
        <p:nvSpPr>
          <p:cNvPr id="27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Clausen1_med"/>
          <p:cNvPicPr/>
          <p:nvPr/>
        </p:nvPicPr>
        <p:blipFill>
          <a:blip r:embed="rId1"/>
          <a:stretch/>
        </p:blipFill>
        <p:spPr>
          <a:xfrm>
            <a:off x="1447920" y="838080"/>
            <a:ext cx="6172200" cy="5181840"/>
          </a:xfrm>
          <a:prstGeom prst="rect">
            <a:avLst/>
          </a:prstGeom>
          <a:ln w="0">
            <a:noFill/>
          </a:ln>
        </p:spPr>
      </p:pic>
      <p:sp>
        <p:nvSpPr>
          <p:cNvPr id="27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0" name="Picture 5" descr="Petter-Hamnes2"/>
          <p:cNvPicPr/>
          <p:nvPr/>
        </p:nvPicPr>
        <p:blipFill>
          <a:blip r:embed="rId1"/>
          <a:stretch/>
        </p:blipFill>
        <p:spPr>
          <a:xfrm>
            <a:off x="2600280" y="0"/>
            <a:ext cx="415296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7" descr="Takasaka5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83000"/>
          </a:xfrm>
          <a:prstGeom prst="rect">
            <a:avLst/>
          </a:prstGeom>
          <a:ln w="0">
            <a:noFill/>
          </a:ln>
        </p:spPr>
      </p:pic>
      <p:sp>
        <p:nvSpPr>
          <p:cNvPr id="28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5" name="Picture 4" descr="Majko1"/>
          <p:cNvPicPr/>
          <p:nvPr/>
        </p:nvPicPr>
        <p:blipFill>
          <a:blip r:embed="rId1"/>
          <a:stretch/>
        </p:blipFill>
        <p:spPr>
          <a:xfrm>
            <a:off x="762120" y="10666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28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uroras from sp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8" name="Picture 2" descr="http://spaceweather.com/images2012/17oct12/dmsp_strip.jpg"/>
          <p:cNvPicPr/>
          <p:nvPr/>
        </p:nvPicPr>
        <p:blipFill>
          <a:blip r:embed="rId1"/>
          <a:stretch/>
        </p:blipFill>
        <p:spPr>
          <a:xfrm>
            <a:off x="1504800" y="1523880"/>
            <a:ext cx="5200920" cy="488628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S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very high temperat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 + 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He + ener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y= he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radi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6" descr="http://www.fplsafetyworld.com/templates/kidskorner/images/lnh2.jpg"/>
          <p:cNvPicPr/>
          <p:nvPr/>
        </p:nvPicPr>
        <p:blipFill>
          <a:blip r:embed="rId4"/>
          <a:stretch/>
        </p:blipFill>
        <p:spPr>
          <a:xfrm>
            <a:off x="4876920" y="1905120"/>
            <a:ext cx="3911400" cy="31240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positon of the Su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90% H &amp; 10% H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sma- gas stripped of electr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5" descr="Sun - Elements"/>
          <p:cNvPicPr/>
          <p:nvPr/>
        </p:nvPicPr>
        <p:blipFill>
          <a:blip r:embed="rId3"/>
          <a:stretch/>
        </p:blipFill>
        <p:spPr>
          <a:xfrm>
            <a:off x="1905120" y="3276720"/>
            <a:ext cx="6172200" cy="31446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n Lay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http://ts2.mm.bing.net/th?id=I.4668797715480809&amp;pid=1.7&amp;w=241&amp;h=145&amp;c=7&amp;rs=1"/>
          <p:cNvPicPr/>
          <p:nvPr/>
        </p:nvPicPr>
        <p:blipFill>
          <a:blip r:embed="rId2"/>
          <a:stretch/>
        </p:blipFill>
        <p:spPr>
          <a:xfrm>
            <a:off x="1038240" y="1981080"/>
            <a:ext cx="6964200" cy="419112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re Fusion is taking pl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5 million º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8" descr="Structure of a normal star"/>
          <p:cNvPicPr/>
          <p:nvPr/>
        </p:nvPicPr>
        <p:blipFill>
          <a:blip r:embed="rId3"/>
          <a:stretch/>
        </p:blipFill>
        <p:spPr>
          <a:xfrm>
            <a:off x="4572000" y="1523880"/>
            <a:ext cx="4267080" cy="5026320"/>
          </a:xfrm>
          <a:prstGeom prst="rect">
            <a:avLst/>
          </a:prstGeom>
          <a:ln w="0">
            <a:noFill/>
          </a:ln>
        </p:spPr>
      </p:pic>
      <p:sp>
        <p:nvSpPr>
          <p:cNvPr id="1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1165320" y="1281240"/>
            <a:ext cx="7292880" cy="484956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adiative Zon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 radiation is traveling through this z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5 million º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3"/>
          <a:srcRect l="32085" t="0" r="0" b="0"/>
          <a:stretch/>
        </p:blipFill>
        <p:spPr>
          <a:xfrm>
            <a:off x="4495680" y="1971720"/>
            <a:ext cx="4496040" cy="440208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VECTIVE ZO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vection curr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t gases rise to surface, cooler gases sink= turbul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5" descr="Sun's Anatomy"/>
          <p:cNvPicPr/>
          <p:nvPr/>
        </p:nvPicPr>
        <p:blipFill>
          <a:blip r:embed="rId3"/>
          <a:stretch/>
        </p:blipFill>
        <p:spPr>
          <a:xfrm>
            <a:off x="4495680" y="2438280"/>
            <a:ext cx="4124520" cy="3095640"/>
          </a:xfrm>
          <a:prstGeom prst="rect">
            <a:avLst/>
          </a:prstGeom>
          <a:ln w="0">
            <a:noFill/>
          </a:ln>
        </p:spPr>
      </p:pic>
      <p:sp>
        <p:nvSpPr>
          <p:cNvPr id="20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9:02:47Z</dcterms:created>
  <dc:creator>Lisa Bouda</dc:creator>
  <dc:description/>
  <dc:language>en-US</dc:language>
  <cp:lastModifiedBy>LEGION</cp:lastModifiedBy>
  <dcterms:modified xsi:type="dcterms:W3CDTF">2018-03-22T09:55:49Z</dcterms:modified>
  <cp:revision>549</cp:revision>
  <dc:subject/>
  <dc:title>OUR SUN</dc:title>
</cp:coreProperties>
</file>